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howtime.wav" ContentType="audio/x-wav"/>
  <Override PartName="/ppt/media/allday1.wav" ContentType="audio/x-wav"/>
  <Override PartName="/ppt/media/entertainment.wav" ContentType="audio/x-wav"/>
  <Override PartName="/ppt/media/justas-thought.wav" ContentType="audio/x-wav"/>
  <Override PartName="/ppt/media/timeisit.wav" ContentType="audio/x-wav"/>
  <Override PartName="/ppt/media/ti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8E3-1683-44CE-A19D-1A61468E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134-6AAD-4967-90B3-C3CE50C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A37-F506-4CC1-AE2B-F6EE4F90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A6B-4CDD-474A-84F4-ACBF5884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4B05-5291-4280-9571-7139E8FF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F680-C7DB-4300-8DE5-402F825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A3FF-2279-4041-BF21-8C3F0866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130F-90A7-49FA-AFB9-4F7A216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7117-79BE-4ABF-8657-A80C34B2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54A3-6459-41BD-A4E8-1EB79C6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A894-BBBF-46CC-A575-EEA4432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287-7DC0-4ACC-990B-6086109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1CCC-6152-49E3-AF5D-633E0E6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5DF5-24D6-4C78-8BF1-FEB4625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82E-F1BA-4AAF-85DC-469F124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4F32-A9A2-438E-84A4-3E36B3B4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D437-65A3-4DB1-AF6A-9C890569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C2D-03AB-47BB-99EE-E256515E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094-E157-4C97-BC5D-C57CB92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188-8942-43CF-842F-9B27978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5F0-B307-4ECE-8857-7351031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440-A2F1-45BA-B3D7-719E4E9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FE4-69FF-46D6-837F-835AF0B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3A9-8E26-4CF0-B35C-84F7740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4050-43F0-4A63-BD8C-B5B44BC519B4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D66-C05A-45FC-AEAD-71AAAABD995C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howtim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llday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im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ntertainmen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ustas-though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imeisi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1549440"/>
            <a:ext cx="8001000" cy="35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t's get start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609480"/>
            <a:ext cx="2133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09480"/>
            <a:ext cx="5029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648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20:41:59Z</dcterms:created>
  <dc:creator>Marilyn Western</dc:creator>
  <dc:description/>
  <dc:language>en-US</dc:language>
  <cp:lastModifiedBy>admin</cp:lastModifiedBy>
  <dcterms:modified xsi:type="dcterms:W3CDTF">2004-08-22T02:56:46Z</dcterms:modified>
  <cp:revision>12</cp:revision>
  <dc:subject/>
  <dc:title>PowerPoint Presentation</dc:title>
</cp:coreProperties>
</file>